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59A-B227-42A1-95BD-1517CE8C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CB31-BED1-4EB6-A9D6-D2E834A93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3B1-B235-42E5-B20D-DC4D2DC5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the filter types to 2 – premium an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ypes – scented, corrugated, rice paper, beetle leaf etc. – 3 typ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Blend – treated, flavored, non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A36-DCA1-4B61-9CD2-2D4E75FE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098-4930-40DF-BA6B-262846834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54C4-AE90-4CA5-BF32-889F5312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A57-88C0-4E1B-A899-3035B270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BB6-BA59-4083-8FC3-9163104CA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8DE-2DA4-42CB-A2E2-8A02F39D5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13D4-125E-4912-9501-792568D9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B6C-6D2D-43F0-AF36-B4CA00A7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85D-41D2-405A-92B9-64AF1EA4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D11-687D-4329-9CD5-3668E425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808C-8EDA-4789-800F-1DB840FA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tory conditions like ephizema, asthm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9D0B-F6CD-4FFD-9C88-8C7BF0A2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, available, addi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ous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ing can offset parkinsons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93A7-3CB6-463D-A71B-8AE6524FE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40F3-F83F-4E91-8512-B67076C54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F3F5-872E-4C3E-933D-FEA7A593C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698A-8931-408C-859B-8E3903058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ACB9-8E9F-40C6-AA75-0B9EAEA35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03DC-7043-4BDC-92F2-C7541450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5CB2-BECE-4C16-9725-B3A059591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5673-2351-407F-9C3F-CDAFFCE85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C15A-92AC-415D-9D71-1B85DA72F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9259-A19A-4F53-AF81-087F78A13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867F-3923-47D8-89E2-5A255621F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ED8F-EA0D-44A8-97F4-5450EE80E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611A-E5F6-4DDF-9DF8-121D571EF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52a51"/>
              </a:buClr>
              <a:buSzPct val="11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252a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1640" y="6641640"/>
            <a:ext cx="360360" cy="1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A34C-56A9-4ADE-8DCD-B175F2FD2FBC}" type="slidenum"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00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c4664"/>
                </a:solidFill>
                <a:latin typeface="Garamond"/>
              </a:rPr>
              <a:t>Click to edit the outline text format</a:t>
            </a: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252a51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252a5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252a51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252a51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YU Stern School of Busines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cision Models – Fall 2006</a:t>
            </a:r>
            <a:br>
              <a:rPr sz="20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deling decisions in Smoking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315288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ichelle Rizk Canessa, Pragati Imam,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ayank Toshniwal, Vinod Addidam 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12/06/06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Managerial Problem definition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960" y="1582560"/>
            <a:ext cx="8992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cigarette brand is unique and so are the preferences of smoker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have 3 decisions that needs help: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Harsh is an international consultant , a smoking enthusiast (addict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ravels extensively, and is faced with the decision of which br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astes, smells and feels (cool!) like the brand he smokes in U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Juran is an insurance agent and also an environmentalist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is company covers Mr. Harsh’s health and he wants to know how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uch effect smoking can have on his life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s. Pragati runs a tobacco firm, looking at expanding internationall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wants to know the competitive landscap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ased on the data provided by Department of Health &amp; Hygiene 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voluntary declarations of cigarette composition by various tobacco firms,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need to build a model that helps simplify the lives of all 3 abov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entioned case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0949-3175-46FA-B613-98EBD4C79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The Universal Model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82520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Real time data provided by Department of Heath &amp; Hygiene is accurate – effect of each chemical,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For every location, top 10 brands have been selected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Out of the 599 additives (variables), we selected the 45 most notorious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3ABC-A612-4B23-99AC-6C40FF566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Objective Fun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Minimize sum of the squares of the difference between the characteristics of the favorite brand and the ideal brand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2a51"/>
                </a:solidFill>
                <a:latin typeface="Arial Narrow"/>
              </a:rPr>
              <a:t>=SUMXMY2(C29:AX29;C32:AX32)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93432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B286-4BF5-43A6-BDBA-F470A1740A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18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Decision Variable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Location (4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rand : Constituent Chemicals (45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onstraint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lection set dynamically generated and constrained to only the top 10 brands in the location (10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Integer non-negative representation used for brands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9480" y="5122800"/>
            <a:ext cx="7696440" cy="9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C5A2-0D18-40D6-AF67-92A9F2A67B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 Model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7720" y="24526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fe Expectancy Simulation Model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38480" y="334476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05320" y="4890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2a54"/>
                </a:solidFill>
                <a:latin typeface="Arial"/>
              </a:rPr>
              <a:t>Time is running out!</a:t>
            </a:r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EED3-8699-4B4A-B9C1-71A5228C6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Simulation -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601956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958F-98C0-4758-BA62-21F4142FB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28560" y="1676520"/>
            <a:ext cx="379116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409920" cy="211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5257800" cy="23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AD30-D60A-4E09-A28E-C9D35C9C0F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3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onclus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5029200" cy="320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76520" y="5181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a 18% probability that your life will be reduced by 1/3</a:t>
            </a:r>
            <a:r>
              <a:rPr b="0" i="1" lang="en-US" sz="2200" spc="-1" strike="noStrike" baseline="30000">
                <a:solidFill>
                  <a:srgbClr val="252a54"/>
                </a:solidFill>
                <a:latin typeface="Arial"/>
              </a:rPr>
              <a:t>rd</a:t>
            </a: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 or more.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F92F-3DBD-48AE-AFA2-BC489A8065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Agenda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085480"/>
            <a:ext cx="7848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Project Descrip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The Universal Model 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Demonstra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0880" y="1981080"/>
            <a:ext cx="609840" cy="47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440" y="2476440"/>
            <a:ext cx="609480" cy="46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19040" y="2997360"/>
            <a:ext cx="609840" cy="46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20560" y="36576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20560" y="41911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E0CD-85E9-4AAC-B7E1-BCE219117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5181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only a 13% probability that you will pass the average expected life of a normal non-smoking healthy human being (boring!)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28A0-C69F-4754-9C1C-30CBC6DB0D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Every man makes his own decisions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Wish he used our model!!!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ut, another disclaim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More accurate data results in more accurate results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Genetic predisposition and other side eff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sychological asp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ricing, if relevant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Demographic and Gender bias can be included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Useful for any product: prescriptions, financial services, coffee , etc…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0386-170E-4032-8546-91B90AB7FB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0720" y="274320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Thank you!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1792440" cy="20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Introduct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6858000" y="762120"/>
            <a:ext cx="129528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Disclaim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not advocates of smoking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Nor do we represent a social organization despising  smokers/tobacco firms and working towards eradication of cigarettes from the face of earth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Stern students of Prof. Juran – aiding ALL the confused decision makers - individual smokers or managers - in making their decisions with the help of our model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61928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9EA7-336A-41E0-A061-0768C2A9F5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124080" y="2320920"/>
            <a:ext cx="2743200" cy="25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61520" y="4935960"/>
            <a:ext cx="452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obacco rod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Cigarette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Filtration Material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ipping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Plug wrap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2840" y="1479600"/>
            <a:ext cx="659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A cigarette is a product manufactured out of cured and finely cut tobacco leaves,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which are rolled or stuffed into a paper-wrapped cylinder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(generally less than 120 mm in length and 10 mm in diameter)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D81C-40BC-4BD7-B34D-F6D7014D4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 (Contd.)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91120" y="615312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5200" y="1447920"/>
            <a:ext cx="7965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igarettes have 599 additives in them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hemicals ranging from Carcinogens (ex. benzo(a)pyrene), lethal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ydrogen cyanide till sweet lavender oil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ingredient has a proven side effect on the metabolic,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nervous and immune system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ost popular and addictive additive is Nicotine! (Duh?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eave alone smoking, eating cigarettes itself is harmful for th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ody – fire adds more diversity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arbon-Monoxide (tar) is the most harmful ingredient of cigarette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smoke that binds to hemoglobin in red blood cells, preventing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ffected cells from carrying a full load of oxygen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Few diseases caused by cigarettes: cancer (in 8 different plausibl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ocations in the body), cataracts, chronic lung diseases, coronar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eart and cardiovascular diseases, as well as reproductive effects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sudden infant death syndrom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0a01"/>
                </a:solidFill>
                <a:latin typeface="Arial"/>
              </a:rPr>
              <a:t>That’s not all!!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D197-61DA-4103-AA82-645C90E03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Psychology of a smok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68000"/>
            <a:ext cx="76183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people start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ol” factor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duction effect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they continue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ddiction (Nicotine abstinence syndrome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nditional attributes – Stress, anxiety, boredom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ssociation – Food, drink, fun and games, and even ***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Advanced smok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tas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smel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cigaret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Loyalty (Brand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74D6-2825-4CD6-8631-DF841832B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Brand nuances – Tobacco industry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5 major players in the tobacco industry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hilip Morris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merican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Brown and Williamso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Liggett Group,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.J. Reynolds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86516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28600" y="3048120"/>
            <a:ext cx="1676520" cy="1353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rcRect l="6782" t="4354" r="-1819" b="4354"/>
          <a:stretch/>
        </p:blipFill>
        <p:spPr>
          <a:xfrm>
            <a:off x="457200" y="47242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481720" y="4267080"/>
            <a:ext cx="1071360" cy="221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892920" y="4267080"/>
            <a:ext cx="133668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276720" y="42670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38098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And the brands ….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1828800" y="4495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28C4-99B1-4579-9973-757A4EDA33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Project Description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23:42Z</dcterms:created>
  <dc:creator>Young Ban</dc:creator>
  <dc:description/>
  <dc:language>en-US</dc:language>
  <cp:lastModifiedBy>Michelle Rizk Canessa</cp:lastModifiedBy>
  <dcterms:modified xsi:type="dcterms:W3CDTF">2006-12-06T03:41:55Z</dcterms:modified>
  <cp:revision>86</cp:revision>
  <dc:subject/>
  <dc:title>NYU Stern School of Business Fall 2006  Relevant Investment Strategies</dc:title>
</cp:coreProperties>
</file>